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jpeg" ContentType="image/jpeg"/>
  <Override PartName="/ppt/media/image4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1757-8E03-4E98-BF4C-B83BE04AF9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and Beyo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s Griffi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and Beyond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s Griffi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lt of the Earth on its axis is also responsible for the seas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e 2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mber 2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lt of the Earth on its axis is also responsible for the seas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ne 21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ember 21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things happen because of this til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ys are longer during the 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ather is warmer during the 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things happen because of this ti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ays are longer during the sum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eather is warmer during the sum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also keeps the moon in orbit around the Earth.  The moon orbits the Earth ever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th (28 day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y also keeps the moon in orbit around the Earth.  The moon orbits the Earth ever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th (28 day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a “natural satellite”.  A satellite is anything the orbits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ificial satellites have four main us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itoring the wea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ing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ing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on is a “natural satellite”.  A satellite is anything the orbits the ea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icial satellites have four main us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itoring the wea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serving the Ear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oring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of the moon we see depends on where the moon is in its orbi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uch of the moon we see depends on where the moon is in its orbi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ear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earanc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solar eclip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 lunar eclip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lip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A solar eclip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A lunar eclip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lip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ll Mo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0F86-C94E-4E77-AE43-BDDFEB7C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317B-ED08-4289-A9DE-DA8C0BB9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0F6A-DA96-4780-8C4B-9470A062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D3AE-535A-4484-A1D6-204C534A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98A9-49A4-4C1E-B084-0FE1F4EB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04DE-C02F-4AFB-A63C-CD693A1F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2BF0-F8A0-4734-80FD-39B53D24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26E4-C033-466F-B27E-912C13A2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46F8-EA3F-4352-B1FA-88C14580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F9BC-A5F0-4F07-B479-FE29DEB9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23BE-5F9A-4086-A50C-58FB46E1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2102-B4EA-4F43-9BD2-7234F322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1A8F-C196-4584-AA1B-048C8DB874D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2130480"/>
            <a:ext cx="294948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Solar System and Beyond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M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076720" y="6093000"/>
            <a:ext cx="345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rs Griffi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farsidemoon"/>
          <p:cNvPicPr/>
          <p:nvPr/>
        </p:nvPicPr>
        <p:blipFill>
          <a:blip r:embed="rId1"/>
          <a:stretch/>
        </p:blipFill>
        <p:spPr>
          <a:xfrm>
            <a:off x="4211640" y="620640"/>
            <a:ext cx="447516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98600" y="380880"/>
            <a:ext cx="812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tilt of the Earth on its axis is also responsible for the seas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609480" y="4572000"/>
            <a:ext cx="3506760" cy="1583640"/>
            <a:chOff x="609480" y="4572000"/>
            <a:chExt cx="3506760" cy="1583640"/>
          </a:xfrm>
        </p:grpSpPr>
        <p:sp>
          <p:nvSpPr>
            <p:cNvPr id="121" name="Text Box 4"/>
            <p:cNvSpPr/>
            <p:nvPr/>
          </p:nvSpPr>
          <p:spPr>
            <a:xfrm>
              <a:off x="609480" y="5695920"/>
              <a:ext cx="35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cc"/>
                  </a:solidFill>
                  <a:latin typeface="Comic Sans MS"/>
                </a:rPr>
                <a:t>What date is it here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5"/>
            <p:cNvSpPr/>
            <p:nvPr/>
          </p:nvSpPr>
          <p:spPr>
            <a:xfrm flipH="1" flipV="1">
              <a:off x="1133280" y="4572000"/>
              <a:ext cx="120960" cy="1139760"/>
            </a:xfrm>
            <a:prstGeom prst="line">
              <a:avLst/>
            </a:prstGeom>
            <a:ln w="255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Text Box 6"/>
          <p:cNvSpPr/>
          <p:nvPr/>
        </p:nvSpPr>
        <p:spPr>
          <a:xfrm>
            <a:off x="1066680" y="6172200"/>
            <a:ext cx="26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June 21</a:t>
            </a:r>
            <a:r>
              <a:rPr b="0" lang="en-GB" sz="2400" spc="-1" strike="noStrike" baseline="30000">
                <a:solidFill>
                  <a:srgbClr val="66ccff"/>
                </a:solidFill>
                <a:latin typeface="Comic Sans MS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7"/>
          <p:cNvGrpSpPr/>
          <p:nvPr/>
        </p:nvGrpSpPr>
        <p:grpSpPr>
          <a:xfrm>
            <a:off x="4876920" y="4648320"/>
            <a:ext cx="3506760" cy="1524960"/>
            <a:chOff x="4876920" y="4648320"/>
            <a:chExt cx="3506760" cy="1524960"/>
          </a:xfrm>
        </p:grpSpPr>
        <p:sp>
          <p:nvSpPr>
            <p:cNvPr id="125" name="Text Box 8"/>
            <p:cNvSpPr/>
            <p:nvPr/>
          </p:nvSpPr>
          <p:spPr>
            <a:xfrm>
              <a:off x="4876920" y="5713560"/>
              <a:ext cx="35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cc"/>
                  </a:solidFill>
                  <a:latin typeface="Comic Sans MS"/>
                </a:rPr>
                <a:t>What date is it here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V="1">
              <a:off x="7380360" y="4648320"/>
              <a:ext cx="237960" cy="1139760"/>
            </a:xfrm>
            <a:prstGeom prst="line">
              <a:avLst/>
            </a:prstGeom>
            <a:ln w="255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Text Box 10"/>
          <p:cNvSpPr/>
          <p:nvPr/>
        </p:nvSpPr>
        <p:spPr>
          <a:xfrm>
            <a:off x="5562720" y="6172200"/>
            <a:ext cx="26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December 21</a:t>
            </a:r>
            <a:r>
              <a:rPr b="0" lang="en-GB" sz="2400" spc="-1" strike="noStrike" baseline="30000">
                <a:solidFill>
                  <a:srgbClr val="66ccff"/>
                </a:solidFill>
                <a:latin typeface="Comic Sans MS"/>
              </a:rPr>
              <a:t>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Object 11"/>
          <p:cNvGraphicFramePr/>
          <p:nvPr/>
        </p:nvGraphicFramePr>
        <p:xfrm>
          <a:off x="6781680" y="2209680"/>
          <a:ext cx="211608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209680"/>
                    <a:ext cx="211608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2"/>
          <p:cNvGraphicFramePr/>
          <p:nvPr/>
        </p:nvGraphicFramePr>
        <p:xfrm>
          <a:off x="380880" y="2209680"/>
          <a:ext cx="2116080" cy="21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209680"/>
                    <a:ext cx="211608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AutoShape 13"/>
          <p:cNvSpPr/>
          <p:nvPr/>
        </p:nvSpPr>
        <p:spPr>
          <a:xfrm>
            <a:off x="3352680" y="1981080"/>
            <a:ext cx="2438640" cy="243864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Object 14"/>
          <p:cNvGraphicFramePr/>
          <p:nvPr/>
        </p:nvGraphicFramePr>
        <p:xfrm>
          <a:off x="380880" y="2209680"/>
          <a:ext cx="1067040" cy="211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4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2209680"/>
                    <a:ext cx="106704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15"/>
          <p:cNvGraphicFramePr/>
          <p:nvPr/>
        </p:nvGraphicFramePr>
        <p:xfrm>
          <a:off x="7848720" y="2209680"/>
          <a:ext cx="1057320" cy="2133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6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48720" y="2209680"/>
                    <a:ext cx="10573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Line 16"/>
          <p:cNvSpPr/>
          <p:nvPr/>
        </p:nvSpPr>
        <p:spPr>
          <a:xfrm flipV="1">
            <a:off x="1143000" y="2057040"/>
            <a:ext cx="609480" cy="2438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V="1">
            <a:off x="7543800" y="1981080"/>
            <a:ext cx="609480" cy="2438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4840200" y="644400"/>
            <a:ext cx="3692520" cy="1274760"/>
            <a:chOff x="4840200" y="644400"/>
            <a:chExt cx="3692520" cy="1274760"/>
          </a:xfrm>
        </p:grpSpPr>
        <p:pic>
          <p:nvPicPr>
            <p:cNvPr id="140" name="Picture 3" descr="earth in seasons"/>
            <p:cNvPicPr/>
            <p:nvPr/>
          </p:nvPicPr>
          <p:blipFill>
            <a:blip r:embed="rId1"/>
            <a:srcRect l="0" t="27301" r="38940" b="26390"/>
            <a:stretch/>
          </p:blipFill>
          <p:spPr>
            <a:xfrm>
              <a:off x="4840200" y="721080"/>
              <a:ext cx="3692520" cy="10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4"/>
            <p:cNvSpPr/>
            <p:nvPr/>
          </p:nvSpPr>
          <p:spPr>
            <a:xfrm>
              <a:off x="6079680" y="644400"/>
              <a:ext cx="1164960" cy="127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5"/>
            <p:cNvSpPr/>
            <p:nvPr/>
          </p:nvSpPr>
          <p:spPr>
            <a:xfrm>
              <a:off x="6260040" y="81900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6"/>
            <p:cNvSpPr/>
            <p:nvPr/>
          </p:nvSpPr>
          <p:spPr>
            <a:xfrm>
              <a:off x="6264000" y="112464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AutoShape 7"/>
            <p:cNvSpPr/>
            <p:nvPr/>
          </p:nvSpPr>
          <p:spPr>
            <a:xfrm>
              <a:off x="6263280" y="1454400"/>
              <a:ext cx="804960" cy="213840"/>
            </a:xfrm>
            <a:prstGeom prst="leftArrow">
              <a:avLst>
                <a:gd name="adj1" fmla="val 50000"/>
                <a:gd name="adj2" fmla="val 94108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 Box 8"/>
          <p:cNvSpPr/>
          <p:nvPr/>
        </p:nvSpPr>
        <p:spPr>
          <a:xfrm>
            <a:off x="225360" y="731880"/>
            <a:ext cx="44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Two things happen because of this til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498600" y="2916360"/>
            <a:ext cx="8126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cc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cccc"/>
                </a:solidFill>
                <a:latin typeface="Comic Sans MS"/>
              </a:rPr>
              <a:t>The days are longer during the sum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966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9966ff"/>
                </a:solidFill>
                <a:latin typeface="Comic Sans MS"/>
              </a:rPr>
              <a:t>The weather is warmer during the sum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Astronaut_Aldrinmo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ratersma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WordArt 3"/>
          <p:cNvSpPr txBox="1"/>
          <p:nvPr/>
        </p:nvSpPr>
        <p:spPr>
          <a:xfrm>
            <a:off x="3124080" y="4952880"/>
            <a:ext cx="28195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rater_AZearth"/>
          <p:cNvPicPr/>
          <p:nvPr/>
        </p:nvPicPr>
        <p:blipFill>
          <a:blip r:embed="rId1"/>
          <a:stretch/>
        </p:blipFill>
        <p:spPr>
          <a:xfrm>
            <a:off x="0" y="652320"/>
            <a:ext cx="9144000" cy="5553360"/>
          </a:xfrm>
          <a:prstGeom prst="rect">
            <a:avLst/>
          </a:prstGeom>
          <a:ln w="0">
            <a:noFill/>
          </a:ln>
        </p:spPr>
      </p:pic>
      <p:sp>
        <p:nvSpPr>
          <p:cNvPr id="151" name="WordArt 3"/>
          <p:cNvSpPr txBox="1"/>
          <p:nvPr/>
        </p:nvSpPr>
        <p:spPr>
          <a:xfrm>
            <a:off x="380880" y="762120"/>
            <a:ext cx="3276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Cra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1280" y="36936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3ebf1"/>
                </a:solidFill>
                <a:latin typeface="Arial"/>
              </a:rPr>
              <a:t>Gravity also keeps the moon in orbit around the Earth.  The moon orbits the Earth every…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Picture 3" descr="EARTH"/>
          <p:cNvPicPr/>
          <p:nvPr/>
        </p:nvPicPr>
        <p:blipFill>
          <a:blip r:embed="rId1"/>
          <a:srcRect l="0" t="25136" r="0" b="0"/>
          <a:stretch/>
        </p:blipFill>
        <p:spPr>
          <a:xfrm>
            <a:off x="2508120" y="2552760"/>
            <a:ext cx="2808360" cy="2960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MOON"/>
          <p:cNvPicPr/>
          <p:nvPr/>
        </p:nvPicPr>
        <p:blipFill>
          <a:blip r:embed="rId2"/>
          <a:srcRect l="0" t="30915" r="0" b="0"/>
          <a:stretch/>
        </p:blipFill>
        <p:spPr>
          <a:xfrm>
            <a:off x="6392880" y="3524400"/>
            <a:ext cx="955800" cy="936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 rot="12442800">
            <a:off x="0" y="0"/>
            <a:ext cx="7086600" cy="6553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959400 h 6553080"/>
              <a:gd name="textAreaBottom" fmla="*/ 5593680 h 6553080"/>
            </a:gdLst>
            <a:ahLst/>
            <a:rect l="textAreaLeft" t="textAreaTop" r="textAreaRight" b="textAreaBottom"/>
            <a:pathLst>
              <a:path w="21600" h="21600">
                <a:moveTo>
                  <a:pt x="1636" y="6311"/>
                </a:moveTo>
                <a:cubicBezTo>
                  <a:pt x="951" y="7708"/>
                  <a:pt x="596" y="9243"/>
                  <a:pt x="596" y="10799"/>
                </a:cubicBezTo>
                <a:cubicBezTo>
                  <a:pt x="595" y="11115"/>
                  <a:pt x="610" y="11429"/>
                  <a:pt x="639" y="11743"/>
                </a:cubicBezTo>
                <a:lnTo>
                  <a:pt x="46" y="11798"/>
                </a:lnTo>
                <a:cubicBezTo>
                  <a:pt x="15" y="11466"/>
                  <a:pt x="0" y="11133"/>
                  <a:pt x="0" y="10800"/>
                </a:cubicBezTo>
                <a:cubicBezTo>
                  <a:pt x="-1" y="9153"/>
                  <a:pt x="376" y="7527"/>
                  <a:pt x="1101" y="6048"/>
                </a:cubicBezTo>
                <a:lnTo>
                  <a:pt x="-1324" y="4861"/>
                </a:lnTo>
                <a:lnTo>
                  <a:pt x="2686" y="3487"/>
                </a:lnTo>
                <a:lnTo>
                  <a:pt x="4061" y="7498"/>
                </a:lnTo>
                <a:lnTo>
                  <a:pt x="1636" y="631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186520" y="1363680"/>
            <a:ext cx="33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month (28 day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320" y="234720"/>
            <a:ext cx="81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3ebf1"/>
                </a:solidFill>
                <a:latin typeface="Arial"/>
              </a:rPr>
              <a:t>The moon is a “natural satellite”.  A satellite is anything the orbits the earth</a:t>
            </a:r>
            <a:endParaRPr b="0" lang="en-US" sz="2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6520" y="180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ccff"/>
                </a:solidFill>
                <a:latin typeface="Comic Sans MS"/>
              </a:rPr>
              <a:t>Artificial satellites have four main u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ff"/>
                </a:solidFill>
                <a:latin typeface="Comic Sans MS"/>
              </a:rPr>
              <a:t>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Monitoring the we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99ff"/>
                </a:solidFill>
                <a:latin typeface="Comic Sans MS"/>
              </a:rPr>
              <a:t>Observing the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Exploring the sola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bs00925_"/>
          <p:cNvPicPr/>
          <p:nvPr/>
        </p:nvPicPr>
        <p:blipFill>
          <a:blip r:embed="rId1"/>
          <a:stretch/>
        </p:blipFill>
        <p:spPr>
          <a:xfrm>
            <a:off x="5403960" y="2584440"/>
            <a:ext cx="33033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60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much of the moon we see depends on where the moon is in its orbit:</a:t>
            </a:r>
            <a:endParaRPr b="0" lang="en-US" sz="3200" spc="-1" strike="noStrike">
              <a:solidFill>
                <a:srgbClr val="e3ebf1"/>
              </a:solidFill>
              <a:latin typeface="Arial"/>
            </a:endParaRPr>
          </a:p>
        </p:txBody>
      </p:sp>
      <p:grpSp>
        <p:nvGrpSpPr>
          <p:cNvPr id="64" name="Group 7"/>
          <p:cNvGrpSpPr/>
          <p:nvPr/>
        </p:nvGrpSpPr>
        <p:grpSpPr>
          <a:xfrm>
            <a:off x="857160" y="1452600"/>
            <a:ext cx="3686040" cy="3375000"/>
            <a:chOff x="857160" y="1452600"/>
            <a:chExt cx="3686040" cy="3375000"/>
          </a:xfrm>
        </p:grpSpPr>
        <p:sp>
          <p:nvSpPr>
            <p:cNvPr id="65" name="Oval 8"/>
            <p:cNvSpPr/>
            <p:nvPr/>
          </p:nvSpPr>
          <p:spPr>
            <a:xfrm>
              <a:off x="3747960" y="148428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6" name="Picture 9" descr="EARTH"/>
            <p:cNvPicPr/>
            <p:nvPr/>
          </p:nvPicPr>
          <p:blipFill>
            <a:blip r:embed="rId2"/>
            <a:srcRect l="0" t="26637" r="2189" b="7074"/>
            <a:stretch/>
          </p:blipFill>
          <p:spPr>
            <a:xfrm>
              <a:off x="857160" y="2863800"/>
              <a:ext cx="2057400" cy="19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0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4114440" y="1452600"/>
              <a:ext cx="428760" cy="8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Line 11"/>
            <p:cNvSpPr/>
            <p:nvPr/>
          </p:nvSpPr>
          <p:spPr>
            <a:xfrm flipV="1">
              <a:off x="1860480" y="1544400"/>
              <a:ext cx="2038320" cy="1514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rot="20428800">
              <a:off x="1790640" y="2612880"/>
              <a:ext cx="2530440" cy="74520"/>
            </a:xfrm>
            <a:prstGeom prst="triangle">
              <a:avLst>
                <a:gd name="adj" fmla="val 9353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586320" y="5468760"/>
            <a:ext cx="763560" cy="720720"/>
            <a:chOff x="3586320" y="5468760"/>
            <a:chExt cx="763560" cy="720720"/>
          </a:xfrm>
        </p:grpSpPr>
        <p:sp>
          <p:nvSpPr>
            <p:cNvPr id="72" name="AutoShape 15"/>
            <p:cNvSpPr/>
            <p:nvPr/>
          </p:nvSpPr>
          <p:spPr>
            <a:xfrm flipH="1">
              <a:off x="3987360" y="5468760"/>
              <a:ext cx="360360" cy="72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16"/>
            <p:cNvSpPr/>
            <p:nvPr/>
          </p:nvSpPr>
          <p:spPr>
            <a:xfrm>
              <a:off x="3586320" y="5472000"/>
              <a:ext cx="763560" cy="703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Rectangle 17"/>
          <p:cNvSpPr/>
          <p:nvPr/>
        </p:nvSpPr>
        <p:spPr>
          <a:xfrm>
            <a:off x="4284720" y="6524640"/>
            <a:ext cx="424800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3780000" y="404640"/>
            <a:ext cx="4321080" cy="28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77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0" name="Picture 6" descr="EARTH"/>
          <p:cNvPicPr/>
          <p:nvPr/>
        </p:nvPicPr>
        <p:blipFill>
          <a:blip r:embed="rId2"/>
          <a:srcRect l="0" t="26637" r="2189" b="7074"/>
          <a:stretch/>
        </p:blipFill>
        <p:spPr>
          <a:xfrm>
            <a:off x="857160" y="2863800"/>
            <a:ext cx="2057400" cy="19638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7"/>
          <p:cNvGrpSpPr/>
          <p:nvPr/>
        </p:nvGrpSpPr>
        <p:grpSpPr>
          <a:xfrm>
            <a:off x="1455840" y="372960"/>
            <a:ext cx="794880" cy="807840"/>
            <a:chOff x="1455840" y="372960"/>
            <a:chExt cx="794880" cy="807840"/>
          </a:xfrm>
        </p:grpSpPr>
        <p:sp>
          <p:nvSpPr>
            <p:cNvPr id="82" name="Oval 8"/>
            <p:cNvSpPr/>
            <p:nvPr/>
          </p:nvSpPr>
          <p:spPr>
            <a:xfrm>
              <a:off x="1455840" y="404640"/>
              <a:ext cx="76320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3" name="Picture 9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1822320" y="372960"/>
              <a:ext cx="428400" cy="80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Line 10"/>
          <p:cNvSpPr/>
          <p:nvPr/>
        </p:nvSpPr>
        <p:spPr>
          <a:xfrm flipH="1" flipV="1">
            <a:off x="1453680" y="853920"/>
            <a:ext cx="406440" cy="2205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 rot="16726200">
            <a:off x="788400" y="1794240"/>
            <a:ext cx="2147760" cy="387360"/>
          </a:xfrm>
          <a:prstGeom prst="triangle">
            <a:avLst>
              <a:gd name="adj" fmla="val 8597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Group 13"/>
          <p:cNvGrpSpPr/>
          <p:nvPr/>
        </p:nvGrpSpPr>
        <p:grpSpPr>
          <a:xfrm>
            <a:off x="3660840" y="5442120"/>
            <a:ext cx="795240" cy="807840"/>
            <a:chOff x="3660840" y="5442120"/>
            <a:chExt cx="795240" cy="807840"/>
          </a:xfrm>
        </p:grpSpPr>
        <p:sp>
          <p:nvSpPr>
            <p:cNvPr id="88" name="Oval 14"/>
            <p:cNvSpPr/>
            <p:nvPr/>
          </p:nvSpPr>
          <p:spPr>
            <a:xfrm>
              <a:off x="3660840" y="547380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" name="Picture 15" descr="MOON"/>
            <p:cNvPicPr/>
            <p:nvPr/>
          </p:nvPicPr>
          <p:blipFill>
            <a:blip r:embed="rId4"/>
            <a:srcRect l="48465" t="31608" r="3750" b="4857"/>
            <a:stretch/>
          </p:blipFill>
          <p:spPr>
            <a:xfrm>
              <a:off x="4027320" y="5442120"/>
              <a:ext cx="428760" cy="80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Rectangle 16"/>
          <p:cNvSpPr/>
          <p:nvPr/>
        </p:nvSpPr>
        <p:spPr>
          <a:xfrm>
            <a:off x="4284720" y="6524640"/>
            <a:ext cx="424800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3780000" y="333360"/>
            <a:ext cx="432108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3851280" y="412920"/>
            <a:ext cx="5292000" cy="6444360"/>
            <a:chOff x="3851280" y="412920"/>
            <a:chExt cx="5292000" cy="6444360"/>
          </a:xfrm>
        </p:grpSpPr>
        <p:pic>
          <p:nvPicPr>
            <p:cNvPr id="93" name="Picture 3" descr="Sun"/>
            <p:cNvPicPr/>
            <p:nvPr/>
          </p:nvPicPr>
          <p:blipFill>
            <a:blip r:embed="rId1"/>
            <a:srcRect l="13674" t="0" r="52167" b="0"/>
            <a:stretch/>
          </p:blipFill>
          <p:spPr>
            <a:xfrm>
              <a:off x="5913360" y="412920"/>
              <a:ext cx="3229920" cy="63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4"/>
            <p:cNvSpPr/>
            <p:nvPr/>
          </p:nvSpPr>
          <p:spPr>
            <a:xfrm>
              <a:off x="4308840" y="65905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5"/>
            <p:cNvSpPr/>
            <p:nvPr/>
          </p:nvSpPr>
          <p:spPr>
            <a:xfrm>
              <a:off x="3851280" y="418320"/>
              <a:ext cx="4186800" cy="266760"/>
            </a:xfrm>
            <a:prstGeom prst="rect">
              <a:avLst/>
            </a:prstGeom>
            <a:solidFill>
              <a:srgbClr val="e3ebf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Text Box 6"/>
          <p:cNvSpPr/>
          <p:nvPr/>
        </p:nvSpPr>
        <p:spPr>
          <a:xfrm>
            <a:off x="1407960" y="5337000"/>
            <a:ext cx="337212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ppeara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7" descr="EARTH"/>
          <p:cNvPicPr/>
          <p:nvPr/>
        </p:nvPicPr>
        <p:blipFill>
          <a:blip r:embed="rId2"/>
          <a:srcRect l="0" t="26637" r="2189" b="7074"/>
          <a:stretch/>
        </p:blipFill>
        <p:spPr>
          <a:xfrm>
            <a:off x="1666800" y="2803680"/>
            <a:ext cx="2057400" cy="19634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8"/>
          <p:cNvSpPr/>
          <p:nvPr/>
        </p:nvSpPr>
        <p:spPr>
          <a:xfrm rot="13276800">
            <a:off x="247320" y="2103480"/>
            <a:ext cx="2558880" cy="652320"/>
          </a:xfrm>
          <a:prstGeom prst="triangle">
            <a:avLst>
              <a:gd name="adj" fmla="val 8597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9"/>
          <p:cNvGrpSpPr/>
          <p:nvPr/>
        </p:nvGrpSpPr>
        <p:grpSpPr>
          <a:xfrm>
            <a:off x="237960" y="1284120"/>
            <a:ext cx="776160" cy="798840"/>
            <a:chOff x="237960" y="1284120"/>
            <a:chExt cx="776160" cy="798840"/>
          </a:xfrm>
        </p:grpSpPr>
        <p:sp>
          <p:nvSpPr>
            <p:cNvPr id="100" name="Oval 10"/>
            <p:cNvSpPr/>
            <p:nvPr/>
          </p:nvSpPr>
          <p:spPr>
            <a:xfrm>
              <a:off x="237960" y="1315440"/>
              <a:ext cx="745200" cy="739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1" name="Picture 11" descr="MOON"/>
            <p:cNvPicPr/>
            <p:nvPr/>
          </p:nvPicPr>
          <p:blipFill>
            <a:blip r:embed="rId3"/>
            <a:srcRect l="48465" t="31608" r="3750" b="4857"/>
            <a:stretch/>
          </p:blipFill>
          <p:spPr>
            <a:xfrm>
              <a:off x="595800" y="1284120"/>
              <a:ext cx="418320" cy="79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Line 12"/>
          <p:cNvSpPr/>
          <p:nvPr/>
        </p:nvSpPr>
        <p:spPr>
          <a:xfrm flipH="1" flipV="1">
            <a:off x="460080" y="2043000"/>
            <a:ext cx="2236680" cy="992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3"/>
          <p:cNvSpPr/>
          <p:nvPr/>
        </p:nvSpPr>
        <p:spPr>
          <a:xfrm rot="12847200">
            <a:off x="754920" y="1616040"/>
            <a:ext cx="485640" cy="641520"/>
          </a:xfrm>
          <a:custGeom>
            <a:avLst/>
            <a:gdLst>
              <a:gd name="textAreaLeft" fmla="*/ 159120 w 485640"/>
              <a:gd name="textAreaRight" fmla="*/ 331920 w 485640"/>
              <a:gd name="textAreaTop" fmla="*/ 83160 h 641520"/>
              <a:gd name="textAreaBottom" fmla="*/ 558360 h 64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177" y="2647"/>
                  <a:pt x="14754" y="5080"/>
                  <a:pt x="14754" y="10800"/>
                </a:cubicBezTo>
                <a:cubicBezTo>
                  <a:pt x="14754" y="16520"/>
                  <a:pt x="18177" y="1895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14"/>
          <p:cNvGrpSpPr/>
          <p:nvPr/>
        </p:nvGrpSpPr>
        <p:grpSpPr>
          <a:xfrm>
            <a:off x="3643200" y="5442120"/>
            <a:ext cx="812880" cy="807840"/>
            <a:chOff x="3643200" y="5442120"/>
            <a:chExt cx="812880" cy="807840"/>
          </a:xfrm>
        </p:grpSpPr>
        <p:sp>
          <p:nvSpPr>
            <p:cNvPr id="105" name="Oval 15"/>
            <p:cNvSpPr/>
            <p:nvPr/>
          </p:nvSpPr>
          <p:spPr>
            <a:xfrm>
              <a:off x="3660840" y="5473800"/>
              <a:ext cx="763560" cy="747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6" name="Picture 16" descr="MOON"/>
            <p:cNvPicPr/>
            <p:nvPr/>
          </p:nvPicPr>
          <p:blipFill>
            <a:blip r:embed="rId4"/>
            <a:srcRect l="19968" t="31608" r="3750" b="4857"/>
            <a:stretch/>
          </p:blipFill>
          <p:spPr>
            <a:xfrm>
              <a:off x="3772080" y="5442120"/>
              <a:ext cx="684000" cy="80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AutoShape 17"/>
            <p:cNvSpPr/>
            <p:nvPr/>
          </p:nvSpPr>
          <p:spPr>
            <a:xfrm>
              <a:off x="3643200" y="5470560"/>
              <a:ext cx="328680" cy="74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Rectangle 18"/>
          <p:cNvSpPr/>
          <p:nvPr/>
        </p:nvSpPr>
        <p:spPr>
          <a:xfrm>
            <a:off x="4211640" y="6524640"/>
            <a:ext cx="439272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3851280" y="333360"/>
            <a:ext cx="424980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3ebf1"/>
                </a:solidFill>
                <a:latin typeface="Arial"/>
              </a:rPr>
              <a:t>Eclips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1" name="Picture 3" descr="Lunar eclipse"/>
          <p:cNvPicPr/>
          <p:nvPr/>
        </p:nvPicPr>
        <p:blipFill>
          <a:blip r:embed="rId1"/>
          <a:stretch/>
        </p:blipFill>
        <p:spPr>
          <a:xfrm>
            <a:off x="1143000" y="4940280"/>
            <a:ext cx="6929280" cy="1917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Solar eclipse"/>
          <p:cNvPicPr/>
          <p:nvPr/>
        </p:nvPicPr>
        <p:blipFill>
          <a:blip r:embed="rId2"/>
          <a:srcRect l="0" t="0" r="0" b="4175"/>
          <a:stretch/>
        </p:blipFill>
        <p:spPr>
          <a:xfrm>
            <a:off x="1143000" y="1752480"/>
            <a:ext cx="6934320" cy="18385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914400" y="1066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. A solar eclip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914400" y="4419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A lunar eclip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eclip91asu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WordArt 3"/>
          <p:cNvSpPr txBox="1"/>
          <p:nvPr/>
        </p:nvSpPr>
        <p:spPr>
          <a:xfrm>
            <a:off x="457200" y="5029200"/>
            <a:ext cx="2514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Eclips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moonfullclem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152280" y="152280"/>
            <a:ext cx="2667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ull Mo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1:53:57Z</dcterms:created>
  <dc:creator>Bella Griffiths</dc:creator>
  <dc:description/>
  <dc:language>en-US</dc:language>
  <cp:lastModifiedBy>RomaK</cp:lastModifiedBy>
  <dcterms:modified xsi:type="dcterms:W3CDTF">2015-09-03T12:34:56Z</dcterms:modified>
  <cp:revision>9</cp:revision>
  <dc:subject/>
  <dc:title>Slide 1</dc:title>
</cp:coreProperties>
</file>